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4.png" ContentType="image/png"/>
  <Override PartName="/ppt/media/image24.gif" ContentType="image/gif"/>
  <Override PartName="/ppt/media/image27.gif" ContentType="image/gif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9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E013-5FA8-4AEE-855C-B6EB7249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940D-B64C-40B2-AB62-7487693A2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E542-20E5-4E22-8FBC-4CB7FDA8B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446F-7BE6-4AE6-B941-1048DAE1A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3D46-543A-46D1-AD1B-5EEB0602C5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3D75-85B9-4811-A47A-1324C382B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73B3-E773-4C59-ADD7-33B5670D4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45A2-1DCD-4273-A9A7-BA03102F1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E4D5-311C-4534-A96B-206F2ABE3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0DBB-7963-4E0D-B700-7FBFFCCA0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EC7F-6551-44F3-9768-D4806DEB5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EA1A-4ED8-416E-BFCB-490BA6FAC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6E73-CF09-4461-854A-9ED42F2EC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30A0-7CB1-4FE6-9221-624B77C5AE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9290-72CD-40B4-88F5-6711E0D96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3CD0-4811-4A8B-9E4A-CC1F450E3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C93E-B80C-4B50-BDA0-286D0B964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B1A1-A96E-483B-80DD-77F27C12C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6EB1-8002-4374-9A37-B3B64B785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B16E-93EC-43C1-88A2-8609471A1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ABF8-E8CB-4908-A7B9-5C5F0C27F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39F1-A4D8-40BF-8B28-10D11471C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41C3-DE51-4749-9986-4CB15E507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0003-5CB6-4107-88A0-F1AF2E066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BAA-12B5-45BA-B173-E9DA2BA4738A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BF3-E646-48A6-9FC2-E3E4BABDEBDF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8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gi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flcymru.org.uk/vtc/depression_and_fronts/eng/Introduction/plenary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bc.co.uk/learningzone/clips/clips/s_geog/bb/s_geog_ec_02985_4x3_bb.asx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ow pressure areas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r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epression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2407-33BB-4437-9F25-7477A8EAD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016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8F84-CFF9-4A0F-9FA9-BA022C7256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2240" y="2176560"/>
            <a:ext cx="8772480" cy="341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8CC8-685D-4CBF-BEB7-A6412F801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115920"/>
            <a:ext cx="4105080" cy="4249800"/>
            <a:chOff x="250920" y="115920"/>
            <a:chExt cx="4105080" cy="4249800"/>
          </a:xfrm>
        </p:grpSpPr>
        <p:pic>
          <p:nvPicPr>
            <p:cNvPr id="189" name="" descr=""/>
            <p:cNvPicPr/>
            <p:nvPr/>
          </p:nvPicPr>
          <p:blipFill>
            <a:blip r:embed="rId5"/>
            <a:srcRect l="50000" t="16622" r="1660" b="14121"/>
            <a:stretch/>
          </p:blipFill>
          <p:spPr>
            <a:xfrm>
              <a:off x="250920" y="115920"/>
              <a:ext cx="41050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309840" y="357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6"/>
          <a:srcRect l="1115" t="48992" r="51496" b="18239"/>
          <a:stretch/>
        </p:blipFill>
        <p:spPr>
          <a:xfrm>
            <a:off x="324000" y="4292640"/>
            <a:ext cx="4032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F264-A3A2-41AB-831E-D1D6AB9404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0360" y="0"/>
            <a:ext cx="4140360" cy="4437000"/>
            <a:chOff x="360360" y="0"/>
            <a:chExt cx="4140360" cy="44370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9261" t="10031" r="0" b="15164"/>
            <a:stretch/>
          </p:blipFill>
          <p:spPr>
            <a:xfrm>
              <a:off x="360360" y="0"/>
              <a:ext cx="414036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84720" y="378792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6"/>
          <a:srcRect l="-354" t="47951" r="50746" b="19252"/>
          <a:stretch/>
        </p:blipFill>
        <p:spPr>
          <a:xfrm>
            <a:off x="0" y="4552920"/>
            <a:ext cx="48243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5C61-4616-44D5-8DD7-0AA2C0C7B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4360" y="404640"/>
            <a:ext cx="3958560" cy="4103640"/>
            <a:chOff x="684360" y="404640"/>
            <a:chExt cx="3958560" cy="410364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rcRect l="49693" t="15520" r="696" b="14880"/>
            <a:stretch/>
          </p:blipFill>
          <p:spPr>
            <a:xfrm>
              <a:off x="684360" y="404640"/>
              <a:ext cx="39585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6240" y="3777840"/>
              <a:ext cx="691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6"/>
          <a:srcRect l="0" t="47879" r="50969" b="18126"/>
          <a:stretch/>
        </p:blipFill>
        <p:spPr>
          <a:xfrm>
            <a:off x="684360" y="4508640"/>
            <a:ext cx="4032000" cy="20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7272-3750-4844-8607-109701DBD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333360"/>
            <a:ext cx="4284360" cy="6462720"/>
            <a:chOff x="324000" y="333360"/>
            <a:chExt cx="4284360" cy="64627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rcRect l="50310" t="16198" r="1754" b="15840"/>
            <a:stretch/>
          </p:blipFill>
          <p:spPr>
            <a:xfrm>
              <a:off x="324000" y="333360"/>
              <a:ext cx="4284360" cy="43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"/>
            <a:srcRect l="1134" t="48842" r="50904" b="18804"/>
            <a:stretch/>
          </p:blipFill>
          <p:spPr>
            <a:xfrm>
              <a:off x="324000" y="4724280"/>
              <a:ext cx="42480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492360" y="4005360"/>
              <a:ext cx="698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F51B-366A-4886-A064-D2966CD137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4"/>
          <p:cNvGrpSpPr/>
          <p:nvPr/>
        </p:nvGrpSpPr>
        <p:grpSpPr>
          <a:xfrm>
            <a:off x="1357200" y="785880"/>
            <a:ext cx="6500880" cy="2786040"/>
            <a:chOff x="1357200" y="785880"/>
            <a:chExt cx="6500880" cy="2786040"/>
          </a:xfrm>
        </p:grpSpPr>
        <p:pic>
          <p:nvPicPr>
            <p:cNvPr id="208" name="Picture 4" descr="06f.jpg"/>
            <p:cNvPicPr/>
            <p:nvPr/>
          </p:nvPicPr>
          <p:blipFill>
            <a:blip r:embed="rId1"/>
            <a:stretch/>
          </p:blipFill>
          <p:spPr>
            <a:xfrm>
              <a:off x="1357200" y="785880"/>
              <a:ext cx="6500880" cy="2786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209" name="Oval 5"/>
            <p:cNvSpPr/>
            <p:nvPr/>
          </p:nvSpPr>
          <p:spPr>
            <a:xfrm>
              <a:off x="5786280" y="228600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5143320" y="24289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>
              <a:off x="4438440" y="2508480"/>
              <a:ext cx="39816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>
              <a:off x="3714480" y="250056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3143160" y="22147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4" name="Right Arrow 3"/>
          <p:cNvSpPr/>
          <p:nvPr/>
        </p:nvSpPr>
        <p:spPr>
          <a:xfrm>
            <a:off x="3841920" y="2962440"/>
            <a:ext cx="1790640" cy="323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3535200"/>
          <a:ext cx="8786880" cy="3170520"/>
        </p:xfrm>
        <a:graphic>
          <a:graphicData uri="http://schemas.openxmlformats.org/drawingml/2006/table">
            <a:tbl>
              <a:tblPr/>
              <a:tblGrid>
                <a:gridCol w="1643040"/>
                <a:gridCol w="1871640"/>
                <a:gridCol w="1757520"/>
                <a:gridCol w="1757520"/>
                <a:gridCol w="1757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hind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the warm secto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ead of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remains co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is still a bit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are showers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sudden drop in temperatur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cken into big cumulonimbus cloud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, sometimes to gale forc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heavy rain, sometimes with hail, sleet and thunder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emperatures are mi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 becomes thinner and break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stead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turns to drizzle and stop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s continue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s get thicker and lower (known as nimbostratus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is continuous and sometimes heav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veers and becomes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high thin cloud called cirru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ain at firs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is quite cold but the temperatures start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Oval 14"/>
          <p:cNvSpPr/>
          <p:nvPr/>
        </p:nvSpPr>
        <p:spPr>
          <a:xfrm>
            <a:off x="735804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57208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3857760" y="3714840"/>
            <a:ext cx="28548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>
            <a:off x="200016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35712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714240" y="71280"/>
            <a:ext cx="8001000" cy="6426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hat are the expected weather conditions at each stage of a depression as it crosses Britain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Picture 39" descr="http://www.dollymix.tv/lisasimpson.jpg"/>
          <p:cNvPicPr/>
          <p:nvPr/>
        </p:nvPicPr>
        <p:blipFill>
          <a:blip r:embed="rId22"/>
          <a:stretch/>
        </p:blipFill>
        <p:spPr>
          <a:xfrm>
            <a:off x="71280" y="1714680"/>
            <a:ext cx="1162080" cy="161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ular Callout 24"/>
          <p:cNvSpPr/>
          <p:nvPr/>
        </p:nvSpPr>
        <p:spPr>
          <a:xfrm>
            <a:off x="857160" y="1500120"/>
            <a:ext cx="1428840" cy="714600"/>
          </a:xfrm>
          <a:prstGeom prst="wedgeRectCallout">
            <a:avLst>
              <a:gd name="adj1" fmla="val -46625"/>
              <a:gd name="adj2" fmla="val 8924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to learn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A900-EBA6-4C1A-9E8C-269755C89B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85840" y="785880"/>
          <a:ext cx="8572320" cy="5214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2" descr="Marge_shopsani.gif"/>
          <p:cNvPicPr/>
          <p:nvPr/>
        </p:nvPicPr>
        <p:blipFill>
          <a:blip r:embed="rId1"/>
          <a:stretch/>
        </p:blipFill>
        <p:spPr>
          <a:xfrm flipH="1">
            <a:off x="500040" y="836640"/>
            <a:ext cx="843120" cy="141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ular Callout 3"/>
          <p:cNvSpPr/>
          <p:nvPr/>
        </p:nvSpPr>
        <p:spPr>
          <a:xfrm>
            <a:off x="1500120" y="992160"/>
            <a:ext cx="1500120" cy="1428840"/>
          </a:xfrm>
          <a:prstGeom prst="wedgeRectCallout">
            <a:avLst>
              <a:gd name="adj1" fmla="val -85310"/>
              <a:gd name="adj2" fmla="val -7273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e decides to give up on a day outdoors as the rain hasn't stopped for hours!  She decides to go shopping instead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4" descr="Bart_on_skateboardani.gif"/>
          <p:cNvPicPr/>
          <p:nvPr/>
        </p:nvPicPr>
        <p:blipFill>
          <a:blip r:embed="rId2"/>
          <a:stretch/>
        </p:blipFill>
        <p:spPr>
          <a:xfrm>
            <a:off x="3143160" y="90792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ular Callout 5"/>
          <p:cNvSpPr/>
          <p:nvPr/>
        </p:nvSpPr>
        <p:spPr>
          <a:xfrm>
            <a:off x="4429080" y="1143000"/>
            <a:ext cx="1428840" cy="928800"/>
          </a:xfrm>
          <a:prstGeom prst="wedgeRectCallout">
            <a:avLst>
              <a:gd name="adj1" fmla="val -77125"/>
              <a:gd name="adj2" fmla="val -19407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winds nearly blow Bart off his skateboard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6" descr="Lisa_Simpson.png"/>
          <p:cNvPicPr/>
          <p:nvPr/>
        </p:nvPicPr>
        <p:blipFill>
          <a:blip r:embed="rId3"/>
          <a:stretch/>
        </p:blipFill>
        <p:spPr>
          <a:xfrm>
            <a:off x="6215040" y="919080"/>
            <a:ext cx="725400" cy="1214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ular Callout 7"/>
          <p:cNvSpPr/>
          <p:nvPr/>
        </p:nvSpPr>
        <p:spPr>
          <a:xfrm>
            <a:off x="7143840" y="1071720"/>
            <a:ext cx="1571400" cy="1214280"/>
          </a:xfrm>
          <a:prstGeom prst="wedgeRectCallout">
            <a:avLst>
              <a:gd name="adj1" fmla="val -77125"/>
              <a:gd name="adj2" fmla="val -11101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a checks out her ‘Guide to Clouds’ book to find out the name of clouds that are high in the sky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Picture 8" descr="Grandpa_2.gif"/>
          <p:cNvPicPr/>
          <p:nvPr/>
        </p:nvPicPr>
        <p:blipFill>
          <a:blip r:embed="rId4"/>
          <a:stretch/>
        </p:blipFill>
        <p:spPr>
          <a:xfrm>
            <a:off x="7643880" y="2643120"/>
            <a:ext cx="998640" cy="1500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ular Callout 9"/>
          <p:cNvSpPr/>
          <p:nvPr/>
        </p:nvSpPr>
        <p:spPr>
          <a:xfrm>
            <a:off x="6215040" y="2637000"/>
            <a:ext cx="1500120" cy="1434960"/>
          </a:xfrm>
          <a:prstGeom prst="wedgeRectCallout">
            <a:avLst>
              <a:gd name="adj1" fmla="val 73069"/>
              <a:gd name="adj2" fmla="val -24337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mpa” switches on the news to hear that a weather depression going to affect Britain so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0" descr="Maggie_Simpson.png"/>
          <p:cNvPicPr/>
          <p:nvPr/>
        </p:nvPicPr>
        <p:blipFill>
          <a:blip r:embed="rId5"/>
          <a:stretch/>
        </p:blipFill>
        <p:spPr>
          <a:xfrm>
            <a:off x="4668840" y="2786040"/>
            <a:ext cx="11174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ular Callout 11"/>
          <p:cNvSpPr/>
          <p:nvPr/>
        </p:nvSpPr>
        <p:spPr>
          <a:xfrm>
            <a:off x="3348000" y="2852640"/>
            <a:ext cx="1150920" cy="1071720"/>
          </a:xfrm>
          <a:prstGeom prst="wedgeRectCallout">
            <a:avLst>
              <a:gd name="adj1" fmla="val 80898"/>
              <a:gd name="adj2" fmla="val -19629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gie cheers up when the sun comes out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2" descr="bartdancani.gif"/>
          <p:cNvPicPr/>
          <p:nvPr/>
        </p:nvPicPr>
        <p:blipFill>
          <a:blip r:embed="rId6"/>
          <a:stretch/>
        </p:blipFill>
        <p:spPr>
          <a:xfrm>
            <a:off x="1928880" y="2565360"/>
            <a:ext cx="1190520" cy="13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ular Callout 13"/>
          <p:cNvSpPr/>
          <p:nvPr/>
        </p:nvSpPr>
        <p:spPr>
          <a:xfrm>
            <a:off x="428760" y="2714760"/>
            <a:ext cx="1643040" cy="1285920"/>
          </a:xfrm>
          <a:prstGeom prst="wedgeRectCallout">
            <a:avLst>
              <a:gd name="adj1" fmla="val 70708"/>
              <a:gd name="adj2" fmla="val -23013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rt finds a new jacket in the park that’s just his size!  “Excellent”, he says, “its started to get cold and it looks like it might rain!”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7" name="Picture 14" descr="457px-Chief_Wiggum.png"/>
          <p:cNvPicPr/>
          <p:nvPr/>
        </p:nvPicPr>
        <p:blipFill>
          <a:blip r:embed="rId7"/>
          <a:stretch/>
        </p:blipFill>
        <p:spPr>
          <a:xfrm>
            <a:off x="357120" y="4365720"/>
            <a:ext cx="1000080" cy="1311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ular Callout 15"/>
          <p:cNvSpPr/>
          <p:nvPr/>
        </p:nvSpPr>
        <p:spPr>
          <a:xfrm>
            <a:off x="1285920" y="4365720"/>
            <a:ext cx="1714320" cy="1420560"/>
          </a:xfrm>
          <a:prstGeom prst="wedgeRectCallout">
            <a:avLst>
              <a:gd name="adj1" fmla="val -67870"/>
              <a:gd name="adj2" fmla="val -15921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hief Wiggum ventures out of his police car after heavy rain and thunder to buy his coffee and doughnut.  He wasn’t expecting to get caught in a rain shower!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ular Callout 17"/>
          <p:cNvSpPr/>
          <p:nvPr/>
        </p:nvSpPr>
        <p:spPr>
          <a:xfrm>
            <a:off x="4143240" y="4376880"/>
            <a:ext cx="1714680" cy="1428480"/>
          </a:xfrm>
          <a:prstGeom prst="wedgeRectCallout">
            <a:avLst>
              <a:gd name="adj1" fmla="val -67833"/>
              <a:gd name="adj2" fmla="val -19032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18" descr="C-flanders.png"/>
          <p:cNvPicPr/>
          <p:nvPr/>
        </p:nvPicPr>
        <p:blipFill>
          <a:blip r:embed="rId8"/>
          <a:stretch/>
        </p:blipFill>
        <p:spPr>
          <a:xfrm>
            <a:off x="3144960" y="4286160"/>
            <a:ext cx="1317600" cy="1643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Millhouse_3ani.gif"/>
          <p:cNvPicPr/>
          <p:nvPr/>
        </p:nvPicPr>
        <p:blipFill>
          <a:blip r:embed="rId9"/>
          <a:stretch/>
        </p:blipFill>
        <p:spPr>
          <a:xfrm>
            <a:off x="6072120" y="4429080"/>
            <a:ext cx="6588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ular Callout 19"/>
          <p:cNvSpPr/>
          <p:nvPr/>
        </p:nvSpPr>
        <p:spPr>
          <a:xfrm>
            <a:off x="6929280" y="4357800"/>
            <a:ext cx="1785960" cy="1500120"/>
          </a:xfrm>
          <a:prstGeom prst="wedgeRectCallout">
            <a:avLst>
              <a:gd name="adj1" fmla="val -67125"/>
              <a:gd name="adj2" fmla="val -5499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142920" y="115920"/>
            <a:ext cx="8858160" cy="702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Where in the depression...?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Read the following statements from characters in ‘The Simpsons’.  Decide which section of the depression (1-5) they are 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most likely</a:t>
            </a: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to be referring to.  Write your chosen number it in the box next to each statement.  Be ready to justify your decisions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Picture 2" descr="http://faqsmedia.ign.com/faqs/image/article/765/765842/doh_homer_left.jpg"/>
          <p:cNvPicPr/>
          <p:nvPr/>
        </p:nvPicPr>
        <p:blipFill>
          <a:blip r:embed="rId10"/>
          <a:stretch/>
        </p:blipFill>
        <p:spPr>
          <a:xfrm>
            <a:off x="7667640" y="5950080"/>
            <a:ext cx="936720" cy="861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42"/>
          <p:cNvSpPr/>
          <p:nvPr/>
        </p:nvSpPr>
        <p:spPr>
          <a:xfrm>
            <a:off x="466560" y="6083280"/>
            <a:ext cx="230508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99"/>
                </a:solidFill>
                <a:latin typeface="Arial"/>
              </a:rPr>
              <a:t>Categorising information and making decisions to learn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9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327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6084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2556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543564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Rectangle 48"/>
          <p:cNvSpPr/>
          <p:nvPr/>
        </p:nvSpPr>
        <p:spPr>
          <a:xfrm>
            <a:off x="8244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324000" y="5589720"/>
            <a:ext cx="50292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320364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608472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Rounded Rectangular Callout 24"/>
          <p:cNvSpPr/>
          <p:nvPr/>
        </p:nvSpPr>
        <p:spPr>
          <a:xfrm>
            <a:off x="3635280" y="5950080"/>
            <a:ext cx="3363840" cy="863640"/>
          </a:xfrm>
          <a:prstGeom prst="wedgeRoundRectCallout">
            <a:avLst>
              <a:gd name="adj1" fmla="val 74115"/>
              <a:gd name="adj2" fmla="val 9740"/>
              <a:gd name="adj3" fmla="val 16667"/>
            </a:avLst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blank speech bubbles.  Create two appropriate statements for a stage of the depressi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BA27-039F-468A-BE53-9F7672BA6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99ff"/>
                </a:solidFill>
                <a:uFillTx/>
                <a:latin typeface="Comic Sans MS"/>
                <a:hlinkClick r:id="rId1"/>
              </a:rPr>
              <a:t>http://www.ngflcymru.org.uk/vtc/depression_and_fronts/eng/Introduction/plenary.htm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Go to the 3</a:t>
            </a:r>
            <a:r>
              <a:rPr b="1" lang="en-US" sz="3200" spc="-1" strike="noStrike" baseline="30000">
                <a:solidFill>
                  <a:srgbClr val="006699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par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2891-F6A9-42C2-B34B-105A7E1E8B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ast week we saw why sometimes we get clear skies and warm sunny wea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we haven’t had much at that this yea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4748-61E3-49E3-B993-5D460DF310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205160" cy="4681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21267600">
            <a:off x="1547640" y="333000"/>
            <a:ext cx="6624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449160" y="4079160"/>
            <a:ext cx="5366160" cy="1989360"/>
            <a:chOff x="3449160" y="4079160"/>
            <a:chExt cx="5366160" cy="198936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rcRect l="41635" t="55725" r="44826" b="38037"/>
            <a:stretch/>
          </p:blipFill>
          <p:spPr>
            <a:xfrm rot="378000">
              <a:off x="3537000" y="5189040"/>
              <a:ext cx="23497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rcRect l="10872" t="52040" r="58702" b="39032"/>
            <a:stretch/>
          </p:blipFill>
          <p:spPr>
            <a:xfrm rot="378000">
              <a:off x="3492000" y="4365360"/>
              <a:ext cx="52801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rcRect l="10946" t="60304" r="77150" b="36377"/>
            <a:stretch/>
          </p:blipFill>
          <p:spPr>
            <a:xfrm rot="378000">
              <a:off x="5780520" y="5505120"/>
              <a:ext cx="20660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EB9C-FC37-4736-B135-A5D1A9818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 have had a lot of low pressure areas called Depression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274D-227D-4923-A601-42D8DD623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t this point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hope we can watch a BBC video which explains it a rather wel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bbc.co.uk/learningzone/clips/clips/s_geog/bb/s_geog_ec_02985_4x3_bb.asx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CDF-0B5F-4011-AFBA-C9B36919A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rm air and cool air do not mix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tween 45N and 64N cold air from the poles meets warm air from the topics to form a polar fron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1E23-A860-49B5-88E0-F8EDEE0F4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warm air meets cold air, the temperature gradient is strengthen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leads to instability and a wave forms that develops into a triangular shape – warm air inside the triangle and cold air outside i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6F92-5AA4-4989-B272-B53CDA9A4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eading edge of the depression is called the warm front. Here the warm air, which is lighter rises above the cold air in front of it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cold air moving behind the warm air travels faster and pushes its way under the warm air. This is a cold fro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4772-C10C-4AEA-AECD-130DED5DCE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he top of the triangle pressure falls as the warm air rises in a spiral movemen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s develop and blow around the centre of the low pressure in an anticlockwise direc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undary between the warm air and the cold air is called a fron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58327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90C6-38A6-4C96-AE81-AE3B73D185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28:53Z</dcterms:created>
  <dc:creator>Lindy</dc:creator>
  <dc:description/>
  <dc:language>en-US</dc:language>
  <cp:lastModifiedBy>Lindy</cp:lastModifiedBy>
  <dcterms:modified xsi:type="dcterms:W3CDTF">2009-10-03T14:36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